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864-00ED-4AD8-A262-F2459100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A21-FA66-4AB0-867F-474AAEE0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1F4-EAC1-445D-BBD9-02C108A1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EA3-A44F-4C09-B44C-59834815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38CC-F0D7-4F3B-9ECF-30C3AC0C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737A-A0F6-4335-A15B-C27FCECD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2661-70C1-4B5E-819D-167EFA7B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6DA3-61B9-43DC-99D4-B0306D9D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6229-9545-486F-9C51-E6EBAE0F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04AA-34A1-4DE9-BE8B-B301D24D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BEC5-A5A0-4420-927C-5C3DD083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E2E-4C81-4CA0-9921-DD79675A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12BF-DD2D-419A-B36E-4912A477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4B77-E02F-48DB-8CD0-8577B4BC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B498-8417-4FCE-B8A4-56773CBB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62F0-2ADC-4352-B6EA-14BC6CB0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FFEA-F1C7-4F3A-8AB8-BF79253F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4C0-A333-48A1-BC77-C70F38D3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AD6-1EA7-4961-82B1-980D671B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27D-DDA0-4E94-A043-E0CC33B3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45D-EF50-438F-BD2E-AC8ED206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4F0-01B0-4A86-8B09-8DD3FDC3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DF6-3BCA-448E-A90F-F0F7BCEC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8C7-1376-4765-B7C3-1D7FB42C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F58C-2F95-4594-A655-D6F6167429D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1058-ABC9-4B63-BEEB-8D57BE98642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CLASE DE ESPANO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RA Y T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ESCUE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LAPI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CRAY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LIB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TIJ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PAP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MOCHI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73356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76920" y="4343400"/>
            <a:ext cx="1523880" cy="1819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58000" y="4419720"/>
            <a:ext cx="1752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ROP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TAL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ST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FAN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I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CE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1838160" cy="1832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32004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S ESTACION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VE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O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2587680" cy="1722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038480" y="403848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934320" y="434340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54160" y="2352600"/>
            <a:ext cx="32356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28:57Z</dcterms:created>
  <dc:creator>WSFCS Workstation</dc:creator>
  <dc:description/>
  <dc:language>en-US</dc:language>
  <cp:lastModifiedBy>WSFCS Workstation</cp:lastModifiedBy>
  <dcterms:modified xsi:type="dcterms:W3CDTF">2010-04-27T18:55:01Z</dcterms:modified>
  <cp:revision>3</cp:revision>
  <dc:subject/>
  <dc:title>LA CLASE DE ESPANOL</dc:title>
</cp:coreProperties>
</file>